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30B1-95EE-4E27-BCFF-5CBC76224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2541-F5E2-433A-9181-E9D1174B0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1A10-62A0-44A1-BF34-BE6A6F325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16FD-FA9E-4F0A-BE48-6E376F69F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08F0-2E4A-43DE-A595-486A663D6D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29E8-9C53-441F-98A2-B209BEB220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94CE-02F4-432D-84A9-CB5F9B2FDC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365E-79DE-48FF-AD85-018AB7B563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5DA4-5E9E-429A-A996-167C678EEA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09DC-4B3C-4521-A178-0894F693A0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1B5F-CD40-4FDC-BD16-846BB84ABD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17E7-3245-4A30-8658-4EA267F84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A008-1FC2-4EE0-976C-2B5B335BBD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4D91-58E6-4D9E-A141-D1B2040D36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9798-01F3-4C21-84DA-7AD8588E6A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C9E2-4D31-4D6A-868E-781601BFF1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B99F-1DCF-4C40-96EF-91EF8474A6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9962-7110-4043-B844-F68E0CFDD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25B4-4D9A-484E-82AA-DB55B84C6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21ED-3443-4FE5-A582-3C7DD240F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190E-5595-41B2-A1F7-38336C56F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C833-8E5F-471D-968D-331E38F44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D460-A76A-4D17-9E1F-ACAB5A83F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60BB-8803-46C3-A904-CFC6E949F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8164-7FAF-4FE0-A027-3A3AF76701D5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C374-0062-4702-853F-43C0ADEF925C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sln.org.uk/geography/flash/cannock01.swf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Drawing things together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About how the scenery is changed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D0EC-48BF-456E-9B5B-55A37C489D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Ice Erosion is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 what you will meet in the next couple of week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92E0-A614-40A0-BDCB-14694CCC91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ransport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the movement of eroded material by water, wind or ic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is a bit difficult to see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55640" y="2781360"/>
            <a:ext cx="4557600" cy="3417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508720" y="2924280"/>
            <a:ext cx="3238560" cy="26542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But here is a lot of sediment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at is a tree trunk floating down the River Wye last Octob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B20B-2C1F-440B-A1BA-5BA0004F5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ransport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here we have the wind doing some transport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508720" y="2924280"/>
            <a:ext cx="3238560" cy="26542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is one was taken in Iraq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e soldier who took the picture said they have at least one of these a wee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41608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CDE3-F367-4401-A0CB-67476FB334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eposition is a bit easier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what happens when the wind or the water or ice runs out of energy and drops whatever it is carry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2924280"/>
            <a:ext cx="3888000" cy="338580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Kiama Downs Beach, just north of Sydne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Where is that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See those rocks in the foreground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They are being eroded away and will end up on the beach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4465440" cy="29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2B54-2A0B-46B5-82E6-5EF3D150BB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eposition is a bit easier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what happens when the wind or the water or ice runs out of energy and drops whatever it is carry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2924280"/>
            <a:ext cx="3888000" cy="146556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Sand dun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Location: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Sabria, Tunisia</a:t>
            </a:r>
            <a:r>
              <a:rPr b="0" lang="en-GB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4535280" cy="30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4C20-5435-4B3B-9EB2-C8D1115BA3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eposition is a bit easier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what happens when the wind or the water or ice runs out of energy and drops whatever it is carry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2924280"/>
            <a:ext cx="3888000" cy="73404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Mississippi Delta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248000" cy="32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44C0-9E43-40DF-B54D-C86F3B3069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eview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1. What ere the 4 processes involved in changing the scenery? And what do each do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2. What are the 3 agents of eros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3. We saw various pictures – these examples of which processes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84360" y="4437000"/>
            <a:ext cx="7704000" cy="1952640"/>
            <a:chOff x="684360" y="4437000"/>
            <a:chExt cx="7704000" cy="1952640"/>
          </a:xfrm>
        </p:grpSpPr>
        <p:pic>
          <p:nvPicPr>
            <p:cNvPr id="213" name="" descr=""/>
            <p:cNvPicPr/>
            <p:nvPr/>
          </p:nvPicPr>
          <p:blipFill>
            <a:blip r:embed="rId4"/>
            <a:stretch/>
          </p:blipFill>
          <p:spPr>
            <a:xfrm>
              <a:off x="684360" y="4437000"/>
              <a:ext cx="2577960" cy="19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5"/>
            <a:stretch/>
          </p:blipFill>
          <p:spPr>
            <a:xfrm>
              <a:off x="3267000" y="4437000"/>
              <a:ext cx="2519280" cy="19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6"/>
            <a:stretch/>
          </p:blipFill>
          <p:spPr>
            <a:xfrm>
              <a:off x="5796000" y="4444920"/>
              <a:ext cx="2592360" cy="19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6BD9-75E4-4DA0-8EB6-5A9BD14D60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 I said we are going to look at the features of the landscape caused by ic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Comic Sans MS"/>
                <a:hlinkClick r:id="rId3"/>
              </a:rPr>
              <a:t>http://www.sln.org.uk/geography/flash/cannock01.swf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r it is on the wiki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t is a bit of a pain                                                     to get into – just                                                    keep pressing nex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572000" y="3068640"/>
            <a:ext cx="4105440" cy="3646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2160000">
            <a:off x="3850920" y="5516640"/>
            <a:ext cx="1469880" cy="156960"/>
          </a:xfrm>
          <a:prstGeom prst="rightArrow">
            <a:avLst>
              <a:gd name="adj1" fmla="val 50000"/>
              <a:gd name="adj2" fmla="val 234117"/>
            </a:avLst>
          </a:prstGeom>
          <a:solidFill>
            <a:srgbClr val="cc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5290-4047-4C46-ABC6-48D2F9691A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o far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looked 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different types of rock and how they are forme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Different rock gives rise to different scenery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n we had  a small diversion into practical uses of rock and the implications of quarrying out on the environment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we are now going back to scenery but from a different angl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D1BA-D4C2-4C05-B95C-CEEBA819A7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20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Do you remember what were the 2 types of processes that create sediment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F64C-8C05-4076-B59E-935DC9C3DA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ooking at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weathering</a:t>
            </a: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 briefly firs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are 3 broad types of weathering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P.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.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.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an you remember how each works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55A6-6C17-41A8-BE80-B787155131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does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rosion</a:t>
            </a: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 mean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Do you remember what we said was also part of erosion- what tended to happen afterwards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we have 2 other processes following i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ransportat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eposit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are various ways that rock can be worn away – depends a bit what was is doing it (these are called agents of erosion)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gents of erosion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– the things that wear the rock away? (3 all together)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CF69-B07A-4E17-8276-A5165B9154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ind Eros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63640" y="1324080"/>
            <a:ext cx="5616720" cy="4213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79640" y="537372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ypical sharp-edged wind erosion Grand Cany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DC7E-6150-46F7-A5C0-19EA6B2B33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ater Erosion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(Near the source of a river)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772160"/>
            <a:ext cx="3311640" cy="155700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Notice the 'V' profile, absence of vegetation and steep slop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1080" y="3245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2646360" cy="35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356000" y="1052640"/>
            <a:ext cx="3888000" cy="3389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643280" y="4797360"/>
            <a:ext cx="3024360" cy="119124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How a waterfall and gorge are form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3F6A-8531-4236-BDC1-97EAC50445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ater Erosion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(Nearer the mouth of a river)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901080" y="3245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4797360"/>
            <a:ext cx="5543640" cy="825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See how the edge of this river has been eroded to form a river cliff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51656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E207-09FF-4230-A5B0-0742B0B860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ater Erosion  - Coas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901080" y="3245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09800" y="1149480"/>
            <a:ext cx="6875280" cy="50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397F-24D8-4171-9B9D-C38E1AD247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0:31:26Z</dcterms:created>
  <dc:creator>Lindy</dc:creator>
  <dc:description/>
  <dc:language>en-US</dc:language>
  <cp:lastModifiedBy>Lindy</cp:lastModifiedBy>
  <dcterms:modified xsi:type="dcterms:W3CDTF">2009-01-25T14:36:21Z</dcterms:modified>
  <cp:revision>6</cp:revision>
  <dc:subject/>
  <dc:title>Drawing things togeth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